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2.gif" ContentType="image/gif"/>
  <Override PartName="/ppt/media/image25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gif" ContentType="image/gif"/>
  <Override PartName="/ppt/media/image15.jpeg" ContentType="image/jpeg"/>
  <Override PartName="/ppt/media/image16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24.gif" ContentType="image/gi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0028-703B-4DBD-9872-FD13F167F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1DFB-788D-48E3-A2C1-E399B73D7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57A-EFDD-463F-A9CE-7B52A092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817-04A5-489E-85F0-EFDDF79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3B7-BEE0-4349-BA41-79DC416A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582-9B5A-4B13-840E-16076C1A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04C-2444-4438-BC49-0798C98F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0BB-E4AC-4C42-91DA-348CD8C6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3BD-E07C-47DF-9C17-8F0D5D5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6E2-82D0-4193-87F2-E6531A00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CD6-FD1E-4689-B418-B6285A1F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F2A-7197-4701-A223-BA10315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4EA-C5B5-4AD1-80F4-15064F4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3F6-AF31-4BAF-A200-3173867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CC8-D9FE-4C20-BA76-2D8F057FB6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Картинки\АБСТРАКТНЫЕ\Zun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БПОУ «Елецкий колледж экономики, промышленности и отраслевых технологий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«ПРОФЕССИОНАЛЬНОЕ «ВЫГОРАНИЕ» ПРЕПОДАВАТЕЛЯ: ПРИЧИНЫ И ПРОФИЛАКТИКА»</a:t>
            </a:r>
            <a:br>
              <a:rPr sz="5400"/>
            </a:br>
            <a:br>
              <a:rPr sz="54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зработала: педагог-психолог Агапова Инга Анатоль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Картинки\АБСТРАКТНЫЕ\0122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ВТОРАЯ СТАДИЯ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интереса к работ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снижение потребности в общении (в том числе и дома, с друзьями): «не хочется никого видеть»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возникают недоразумения с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бучающи</a:t>
            </a: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мися и коллегами, преподаватель в кругу своих коллег начинает с пренебрежением говорить о некоторых из них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нарастание апатии к концу недел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явление устойчивых соматических симптомов (нет сил, энергии, особенно к концу недели, головные боли по вечерам, увеличение числа простудных заболеваний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повышенная раздражительность, человек «заводится с пол-оборота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артинки\АБСТРАКТНЫЕ\003_3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РЕТЬЯ СТАДИЯ: 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ритупляются представления о ценностях жизни, эмоциональное отношение к миру «уплощается», человек становится опасно равнодушным ко всему, даже к собственной жизн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блюдается когнитивная дисфункция (нарушение памяти, внимани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рушения сна с трудностями засыпания и ранними пробуждения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личностные изменения, человек стремится к уединению (ему гораздо приятнее общаться с животными и природой, чем с людь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акой человек по привычке может еще сохранять внешнюю респектабельность и некоторый апломб, но его глаза теряют блеск интереса к чему бы то ни был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артинки\АБСТРАКТНЫЕ\0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Что мешает мне получить удовлетворение от профессиональной деятельности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17016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дивидуаль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фак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Картинки\АБСТРАКТНЫЕ\Best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Индивидуаль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озра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Пол (женщин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Уровень образ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емейное положение (не состоящие в брак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аж работ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Вынослив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Локус контро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тиль сопротивл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Самооце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Невротизм (тревожнос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Calibri"/>
              </a:rPr>
              <a:t>Коммуникаб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артинки\акварель\Best (26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рганизационные факто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Услови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Рабочие перегру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ефицит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Продолжительность рабоче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одержание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Самостоятельность в свое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Обра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Выгнутая вниз стрелка 5"/>
          <p:cNvSpPr/>
          <p:nvPr/>
        </p:nvSpPr>
        <p:spPr>
          <a:xfrm rot="8686800">
            <a:off x="1531440" y="877680"/>
            <a:ext cx="1335240" cy="447480"/>
          </a:xfrm>
          <a:custGeom>
            <a:avLst/>
            <a:gdLst>
              <a:gd name="textAreaLeft" fmla="*/ 272880 w 1335240"/>
              <a:gd name="textAreaRight" fmla="*/ 931320 w 1335240"/>
              <a:gd name="textAreaTop" fmla="*/ 59760 h 447480"/>
              <a:gd name="textAreaBottom" fmla="*/ 38772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-1360132"/>
                <a:lnTo>
                  <a:pt x="19077" y="15113"/>
                </a:lnTo>
                <a:lnTo>
                  <a:pt x="18575" y="0"/>
                </a:lnTo>
                <a:lnTo>
                  <a:pt x="13027" y="15113"/>
                </a:lnTo>
                <a:lnTo>
                  <a:pt x="15147" y="15113"/>
                </a:lnTo>
                <a:arcTo wR="8835" hR="21600" stAng="4039868" swAng="1215421"/>
                <a:lnTo>
                  <a:pt x="9740" y="21486"/>
                </a:lnTo>
                <a:arcTo wR="8835" hR="21600" stAng="5544711" swAng="5255289"/>
                <a:close/>
              </a:path>
              <a:path fill="darkenLess" w="21600" h="21600">
                <a:moveTo>
                  <a:pt x="0" y="0"/>
                </a:moveTo>
                <a:arcTo wR="8835" hR="21600" stAng="10800000" swAng="-5400000"/>
                <a:lnTo>
                  <a:pt x="10645" y="21600"/>
                </a:lnTo>
                <a:arcTo wR="8835" hR="21600" stAng="5400000" swAng="144711"/>
                <a:lnTo>
                  <a:pt x="9740" y="21486"/>
                </a:lnTo>
                <a:arcTo wR="8835" hR="21600" stAng="5544711" swAng="5255289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Я РАБОТАЮ ПРЕПОДАВ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Начало трудового     Настоящее время      Через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          </a:t>
            </a:r>
            <a:r>
              <a:rPr b="0" i="1" lang="ru-RU" sz="2800" spc="-1" strike="noStrike">
                <a:solidFill>
                  <a:srgbClr val="376092"/>
                </a:solidFill>
                <a:latin typeface="Calibri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24"/>
          <p:cNvGrpSpPr/>
          <p:nvPr/>
        </p:nvGrpSpPr>
        <p:grpSpPr>
          <a:xfrm>
            <a:off x="762120" y="2971800"/>
            <a:ext cx="1904400" cy="2895480"/>
            <a:chOff x="762120" y="2971800"/>
            <a:chExt cx="1904400" cy="2895480"/>
          </a:xfrm>
        </p:grpSpPr>
        <p:sp>
          <p:nvSpPr>
            <p:cNvPr id="104" name="Овал 4"/>
            <p:cNvSpPr/>
            <p:nvPr/>
          </p:nvSpPr>
          <p:spPr>
            <a:xfrm>
              <a:off x="114300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Группа 23"/>
            <p:cNvGrpSpPr/>
            <p:nvPr/>
          </p:nvGrpSpPr>
          <p:grpSpPr>
            <a:xfrm>
              <a:off x="762120" y="2971800"/>
              <a:ext cx="1904400" cy="2895480"/>
              <a:chOff x="762120" y="2971800"/>
              <a:chExt cx="1904400" cy="2895480"/>
            </a:xfrm>
          </p:grpSpPr>
          <p:sp>
            <p:nvSpPr>
              <p:cNvPr id="106" name="Овал 3"/>
              <p:cNvSpPr/>
              <p:nvPr/>
            </p:nvSpPr>
            <p:spPr>
              <a:xfrm>
                <a:off x="1219320" y="2971800"/>
                <a:ext cx="99036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6"/>
              <p:cNvSpPr/>
              <p:nvPr/>
            </p:nvSpPr>
            <p:spPr>
              <a:xfrm flipH="1">
                <a:off x="762120" y="4114800"/>
                <a:ext cx="69984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Прямая соединительная линия 7"/>
              <p:cNvSpPr/>
              <p:nvPr/>
            </p:nvSpPr>
            <p:spPr>
              <a:xfrm flipH="1" flipV="1">
                <a:off x="198072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Овал 14"/>
              <p:cNvSpPr/>
              <p:nvPr/>
            </p:nvSpPr>
            <p:spPr>
              <a:xfrm>
                <a:off x="121932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Овал 15"/>
              <p:cNvSpPr/>
              <p:nvPr/>
            </p:nvSpPr>
            <p:spPr>
              <a:xfrm>
                <a:off x="1828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Группа 25"/>
          <p:cNvGrpSpPr/>
          <p:nvPr/>
        </p:nvGrpSpPr>
        <p:grpSpPr>
          <a:xfrm>
            <a:off x="6781320" y="3048120"/>
            <a:ext cx="1905120" cy="2895480"/>
            <a:chOff x="6781320" y="3048120"/>
            <a:chExt cx="1905120" cy="2895480"/>
          </a:xfrm>
        </p:grpSpPr>
        <p:sp>
          <p:nvSpPr>
            <p:cNvPr id="112" name="Овал 26"/>
            <p:cNvSpPr/>
            <p:nvPr/>
          </p:nvSpPr>
          <p:spPr>
            <a:xfrm>
              <a:off x="7162560" y="396252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Группа 23"/>
            <p:cNvGrpSpPr/>
            <p:nvPr/>
          </p:nvGrpSpPr>
          <p:grpSpPr>
            <a:xfrm>
              <a:off x="6781320" y="3048120"/>
              <a:ext cx="1905120" cy="2895480"/>
              <a:chOff x="6781320" y="3048120"/>
              <a:chExt cx="1905120" cy="2895480"/>
            </a:xfrm>
          </p:grpSpPr>
          <p:sp>
            <p:nvSpPr>
              <p:cNvPr id="114" name="Овал 3"/>
              <p:cNvSpPr/>
              <p:nvPr/>
            </p:nvSpPr>
            <p:spPr>
              <a:xfrm>
                <a:off x="7238880" y="304812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9"/>
              <p:cNvSpPr/>
              <p:nvPr/>
            </p:nvSpPr>
            <p:spPr>
              <a:xfrm flipH="1">
                <a:off x="6781320" y="419112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Прямая соединительная линия 30"/>
              <p:cNvSpPr/>
              <p:nvPr/>
            </p:nvSpPr>
            <p:spPr>
              <a:xfrm flipH="1" flipV="1">
                <a:off x="8000640" y="419076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Овал 31"/>
              <p:cNvSpPr/>
              <p:nvPr/>
            </p:nvSpPr>
            <p:spPr>
              <a:xfrm>
                <a:off x="723888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Овал 32"/>
              <p:cNvSpPr/>
              <p:nvPr/>
            </p:nvSpPr>
            <p:spPr>
              <a:xfrm>
                <a:off x="7848720" y="579132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33"/>
          <p:cNvGrpSpPr/>
          <p:nvPr/>
        </p:nvGrpSpPr>
        <p:grpSpPr>
          <a:xfrm>
            <a:off x="3657240" y="2971800"/>
            <a:ext cx="1905120" cy="2895480"/>
            <a:chOff x="3657240" y="2971800"/>
            <a:chExt cx="1905120" cy="2895480"/>
          </a:xfrm>
        </p:grpSpPr>
        <p:sp>
          <p:nvSpPr>
            <p:cNvPr id="120" name="Овал 34"/>
            <p:cNvSpPr/>
            <p:nvPr/>
          </p:nvSpPr>
          <p:spPr>
            <a:xfrm>
              <a:off x="4038480" y="3886200"/>
              <a:ext cx="1143000" cy="1905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3"/>
            <p:cNvGrpSpPr/>
            <p:nvPr/>
          </p:nvGrpSpPr>
          <p:grpSpPr>
            <a:xfrm>
              <a:off x="3657240" y="2971800"/>
              <a:ext cx="1905120" cy="2895480"/>
              <a:chOff x="3657240" y="2971800"/>
              <a:chExt cx="1905120" cy="2895480"/>
            </a:xfrm>
          </p:grpSpPr>
          <p:sp>
            <p:nvSpPr>
              <p:cNvPr id="122" name="Овал 3"/>
              <p:cNvSpPr/>
              <p:nvPr/>
            </p:nvSpPr>
            <p:spPr>
              <a:xfrm>
                <a:off x="4114800" y="2971800"/>
                <a:ext cx="990720" cy="9144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37"/>
              <p:cNvSpPr/>
              <p:nvPr/>
            </p:nvSpPr>
            <p:spPr>
              <a:xfrm flipH="1">
                <a:off x="3657240" y="4114800"/>
                <a:ext cx="700200" cy="30456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Прямая соединительная линия 38"/>
              <p:cNvSpPr/>
              <p:nvPr/>
            </p:nvSpPr>
            <p:spPr>
              <a:xfrm flipH="1" flipV="1">
                <a:off x="4876560" y="4114440"/>
                <a:ext cx="685800" cy="228600"/>
              </a:xfrm>
              <a:prstGeom prst="line">
                <a:avLst/>
              </a:prstGeom>
              <a:ln w="856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Овал 39"/>
              <p:cNvSpPr/>
              <p:nvPr/>
            </p:nvSpPr>
            <p:spPr>
              <a:xfrm>
                <a:off x="411480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Овал 40"/>
              <p:cNvSpPr/>
              <p:nvPr/>
            </p:nvSpPr>
            <p:spPr>
              <a:xfrm>
                <a:off x="4724640" y="5715000"/>
                <a:ext cx="380880" cy="152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Картинки\Позитив\7616920_Hippi_f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Что мне доставляет удовольстви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D:\Картинки\Позитив\18188264_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34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ПОСОБЫ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ЭФФЕКТИВНОЙ САМОРЕГУЛЯ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46c0a"/>
                </a:solidFill>
                <a:latin typeface="Calibri"/>
              </a:rPr>
              <a:t>смех, улыбка, юмор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D:\Картинки\Позитив\14018988_10788538.jpg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артинки\АБСТРАКТНЫЕ\wallpapersmania-1161870017_i_6837_full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Как специалисту </a:t>
            </a:r>
            <a:br>
              <a:rPr sz="6600"/>
            </a:br>
            <a:r>
              <a:rPr b="0" i="1" lang="ru-RU" sz="6600" spc="-1" strike="noStrike">
                <a:solidFill>
                  <a:srgbClr val="215968"/>
                </a:solidFill>
                <a:latin typeface="Calibri"/>
              </a:rPr>
              <a:t>на ближайшие 5 лет я себе пожелаю 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!!! Документы и Р.С. - Не трогать!!!!!!!\Рабочий стол\cast.gif"/>
          <p:cNvPicPr/>
          <p:nvPr/>
        </p:nvPicPr>
        <p:blipFill>
          <a:blip r:embed="rId1"/>
          <a:stretch/>
        </p:blipFill>
        <p:spPr>
          <a:xfrm>
            <a:off x="2362320" y="0"/>
            <a:ext cx="4200480" cy="569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размышления о хорошем, приятно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596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пор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!!! Документы и Р.С. - Не трогать!!!!!!!\Рабочий стол\20050308_romiro_wallpapers_ru_prazdnik_vesny_1600x1200_A(7726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3152"/>
                </a:solidFill>
                <a:latin typeface="Calibri"/>
              </a:rPr>
              <a:t>рассматривание цветов в помещении, пейзажа за окно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d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D:\Картинки\движуха\водоемы\182738ae0b0a.gif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вдыхание свежего воздух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D:\!!! Документы и Р.С. - Не трогать!!!!!!!\Рабочий стол\[WallpapersMania.nnm.ru]_vol122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чтение стихов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D:\Картинки\движуха\животные\Smile.gif"/>
          <p:cNvPicPr/>
          <p:nvPr/>
        </p:nvPicPr>
        <p:blipFill>
          <a:blip r:embed="rId1"/>
          <a:stretch/>
        </p:blipFill>
        <p:spPr>
          <a:xfrm>
            <a:off x="29718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80"/>
                </a:solidFill>
                <a:latin typeface="Calibri"/>
              </a:rPr>
              <a:t>высказывание похвалы, комплиментов кому-либо просто т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9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Картинки\мультяшки\мультяшки\0084siniy.jpg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Картинки\мультяшки\мультяшки\0084siniy.jpg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D:\Картинки\мультяшки\мультяшки\0084siniy.jpg"/>
          <p:cNvPicPr/>
          <p:nvPr/>
        </p:nvPicPr>
        <p:blipFill>
          <a:blip r:embed="rId3"/>
          <a:stretch/>
        </p:blipFill>
        <p:spPr>
          <a:xfrm>
            <a:off x="609480" y="0"/>
            <a:ext cx="807732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D:\Картинки\мультяшки\мультяшки\0084siniy.jpg"/>
          <p:cNvPicPr/>
          <p:nvPr/>
        </p:nvPicPr>
        <p:blipFill>
          <a:blip r:embed="rId4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Картинки\мультяшки\мультяшки\0084siniy.jpg"/>
          <p:cNvPicPr/>
          <p:nvPr/>
        </p:nvPicPr>
        <p:blipFill>
          <a:blip r:embed="rId5"/>
          <a:stretch/>
        </p:blipFill>
        <p:spPr>
          <a:xfrm>
            <a:off x="1219320" y="685800"/>
            <a:ext cx="6476760" cy="6019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7375e"/>
                </a:solidFill>
                <a:latin typeface="Calibri"/>
              </a:rPr>
              <a:t>ароматерап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артинки\движуха\51.gif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87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прослушивание спокойной, тихой музык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Картинки\психология\myblueskybycelsojunior0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общение с супругом(гой), детьми, внуками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Картинки\Животные\КОШКИ\03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Calibri"/>
              </a:rPr>
              <a:t>рукоделие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артинки\АБСТРАКТНЫЕ\03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в каком соотношении находятся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(профессиональная жизнь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по до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чная жизнь (путешествия, отдых, увлеч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тоящее время      идеальное соотно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914400" y="4191120"/>
            <a:ext cx="266688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5410080" y="4191120"/>
            <a:ext cx="2743200" cy="243828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Картинки\движуха\луна.gif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410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ан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D:\Картинки\Чудеса света\PALACES\607070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бщение с искусством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:\Картинки\Aforizmu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Картинки\АБСТРАКТНЫЕ\wallpapersmania-1158774297_i_3665_fu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— это синдром, развивающийся на фоне хронического стресса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ведущий к истощению эмоционально-энергетических и личностных ресурсов работающего человек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Запах горящей психологической проводки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1981 г. А. Морро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Картинки\движуха\огонь\FIREBAR.GIF"/>
          <p:cNvPicPr/>
          <p:nvPr/>
        </p:nvPicPr>
        <p:blipFill>
          <a:blip r:embed="rId1"/>
          <a:stretch/>
        </p:blipFill>
        <p:spPr>
          <a:xfrm>
            <a:off x="76320" y="4267080"/>
            <a:ext cx="7924680" cy="7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Картинки\движуха\огонь\FIREBAR.GIF"/>
          <p:cNvPicPr/>
          <p:nvPr/>
        </p:nvPicPr>
        <p:blipFill>
          <a:blip r:embed="rId2"/>
          <a:stretch/>
        </p:blipFill>
        <p:spPr>
          <a:xfrm>
            <a:off x="1828800" y="4876920"/>
            <a:ext cx="7238880" cy="8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Картинки\движуха\огонь\FIREBAR.GIF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Картинки\движуха\огонь\FIREBAR.GIF"/>
          <p:cNvPicPr/>
          <p:nvPr/>
        </p:nvPicPr>
        <p:blipFill>
          <a:blip r:embed="rId4"/>
          <a:stretch/>
        </p:blipFill>
        <p:spPr>
          <a:xfrm rot="10800000">
            <a:off x="380520" y="228240"/>
            <a:ext cx="8077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Картинки\АБСТРАКТНЫЕ\01228_cosmicpetals_1920x10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оставляющие синдрома выгор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Эмоциональная истощенность 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-  чувство опустошенности и усталости, вызванное собственной работо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Деперсонализация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(цинизм)  -  предполагает циничное отношение к труду и объектам своего труда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500" spc="-1" strike="noStrike" u="sng">
                <a:solidFill>
                  <a:srgbClr val="ffffff"/>
                </a:solidFill>
                <a:uFillTx/>
                <a:latin typeface="Calibri"/>
              </a:rPr>
              <a:t>Редукция профессиональных достижений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  -  возникновение у работников чувства некомпетентности в своей профессиональной сфере, осознание неуспеха в не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Calibri"/>
              </a:rPr>
              <a:t>Поле самодиагностики</a:t>
            </a: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914400"/>
          <a:ext cx="8534160" cy="5743440"/>
        </p:xfrm>
        <a:graphic>
          <a:graphicData uri="http://schemas.openxmlformats.org/drawingml/2006/table">
            <a:tbl>
              <a:tblPr/>
              <a:tblGrid>
                <a:gridCol w="1218960"/>
                <a:gridCol w="4154760"/>
                <a:gridCol w="631800"/>
                <a:gridCol w="631800"/>
                <a:gridCol w="633240"/>
                <a:gridCol w="631800"/>
                <a:gridCol w="631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симпто-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мпт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ень выраженности, 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тивление выходу на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ые оп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адывание деловых встр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единение, нежелание видеть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видеть сту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заполнять документ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льное исполнение обяза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69" name="Прямоугольник 4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640080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7010280" y="22096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57913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640080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7010280" y="533412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7620120" y="53341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91320" y="47242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5791320" y="281952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5791320" y="4038480"/>
            <a:ext cx="53316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6400800" y="4038480"/>
            <a:ext cx="533520" cy="4572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артинки\АБСТРАКТНЫЕ\00000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Calibri"/>
              </a:rPr>
              <a:t>Стадии профессионального выгорания </a:t>
            </a:r>
            <a:r>
              <a:rPr b="1" lang="ru-RU" sz="4800" spc="-1" strike="noStrike">
                <a:solidFill>
                  <a:srgbClr val="eeece1"/>
                </a:solidFill>
                <a:latin typeface="Calibri"/>
              </a:rPr>
              <a:t>-</a:t>
            </a:r>
            <a:br>
              <a:rPr sz="4800"/>
            </a:br>
            <a:r>
              <a:rPr b="0" i="1" lang="ru-RU" sz="4800" spc="-1" strike="noStrike">
                <a:solidFill>
                  <a:srgbClr val="eeece1"/>
                </a:solidFill>
                <a:latin typeface="Calibri"/>
              </a:rPr>
              <a:t>«три лестничных пролета в глубины профессиональной непригодности» </a:t>
            </a:r>
            <a:br>
              <a:rPr sz="4800"/>
            </a:br>
            <a:r>
              <a:rPr b="0" lang="ru-RU" sz="4800" spc="-1" strike="noStrike">
                <a:solidFill>
                  <a:srgbClr val="eeece1"/>
                </a:solidFill>
                <a:latin typeface="Calibri"/>
              </a:rPr>
              <a:t>Маслач, 198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Картинки\АБСТРАКТНЫЕ\пузырьки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ЕРВАЯ СТАДИЯ: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начинается приглушением эмоций, сглаживанием остроты чувств и свежести переживаний; специалист неожиданно замечает: вроде бы все пока нормально, но... скучно и пусто на душ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исчезают положительные эмоции, появляется некоторая отстраненность в отношениях с членами семь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забывание каких-то моментов («провалы в памяти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03T09:41:24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